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B104F-5C17-44F5-99D2-94B2AA13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C7821-53D7-46A2-B870-575A07D5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893F4-D733-4CD2-8CD1-345033D1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8E2E3-7546-49AD-BD4B-92E8252F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3A93-9E8F-4C4A-B6A6-19B8EAD8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F4C8-070E-41FA-A046-B012B738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5672-CEFD-41C3-9110-A74E1288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3588-5CE8-4658-8D03-94448378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55E3-A31B-4726-8693-716A52EE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E8D4-6D61-4080-8D5E-DA1D7FD5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1BD7-3B7D-4A46-B526-F5C177D9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800F6-65B1-4CC3-AAD1-21A38CA5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E2F5-D270-4285-B9E6-CFD7AD60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4C0A-0E1F-4802-9490-4EF09D74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521F-4D17-4915-A513-E2CA68A3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D19A-2922-4850-841D-BA3ABD4A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DA5D-B674-4685-9474-C2569DF4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253B4-33B6-4831-844D-05300231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7A7AA-E285-451F-86E8-A389ADB8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3B892-B9D9-4E29-93DF-3FC5F255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53A1B-21F2-497F-95A2-DBE734F8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07240-B1C5-42D6-98D3-1EA781B5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F5E15-DC4A-4F6D-8865-46F3A953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A018B-655E-41FE-9211-583400B7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DAFE-1061-441C-A931-46EEA877F3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E265-A6F0-431A-8D52-A0062D46E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ffine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33A5B-9F10-40EE-AC4F-8BB30E0A6E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5T01:05:49Z</dcterms:modified>
  <cp:revision>46</cp:revision>
  <dc:subject/>
  <dc:title>CAP Cryptographic Analysis Program</dc:title>
</cp:coreProperties>
</file>